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09169"/>
        <c:axId val="87299191"/>
      </c:barChart>
      <c:catAx>
        <c:axId val="10109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99191"/>
        <c:crosses val="autoZero"/>
        <c:auto val="1"/>
        <c:lblAlgn val="ctr"/>
        <c:lblOffset val="100"/>
        <c:noMultiLvlLbl val="0"/>
      </c:catAx>
      <c:valAx>
        <c:axId val="87299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09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460-2483-4004-B237-E4A00192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827-7FA4-4DAD-91F7-1DBBF686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C4E-BC24-436D-8676-341685A8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174-2BA7-4D2F-97B7-FE56C83C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2F3-9D65-4929-9DF0-391AF77B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279-DAD7-4EBC-BF75-48699BF9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B1C-0894-4BD3-B7AB-2652A3E3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88F-BACC-4472-9BD2-7FECAC37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50F-68AC-4DB7-AAFB-A8D485B9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E58-A546-4F4E-A743-32397E82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4AA-CB0D-4BFE-BF24-6E7B6F86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B69-3A41-49B7-B940-B19A42A4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F1E9D-C4C0-4C52-8AC6-99206E3564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