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63486"/>
        <c:axId val="15664195"/>
      </c:barChart>
      <c:catAx>
        <c:axId val="48263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64195"/>
        <c:crosses val="autoZero"/>
        <c:auto val="1"/>
        <c:lblAlgn val="ctr"/>
        <c:lblOffset val="100"/>
        <c:noMultiLvlLbl val="0"/>
      </c:catAx>
      <c:valAx>
        <c:axId val="15664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3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54D-4FE5-4E13-B8D5-C74C5222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2E3-3693-41AA-8A35-2E0C3F7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DB6-92B5-4F44-B39F-BA72F272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B3D-4CF8-4D7E-B30A-A757C898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215-396B-400B-8081-319F61A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A7C-7CC5-4FFD-969D-78DE57D5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E03-5BC5-4D8B-B861-1AA7FF24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E41-834A-4A46-A430-E0443224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EC4-75B0-4246-953E-7C50DA1A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43A-786A-4092-979C-151C29B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11C-7193-47F3-8B50-1CB8E39E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ACB2-BEE7-44E9-86A5-B89B7A90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3DDA5-D845-4BFD-8CC1-A57FC7FE0D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