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1342"/>
        <c:axId val="18327292"/>
      </c:barChart>
      <c:catAx>
        <c:axId val="7781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7292"/>
        <c:crosses val="autoZero"/>
        <c:auto val="1"/>
        <c:lblAlgn val="ctr"/>
        <c:lblOffset val="100"/>
        <c:noMultiLvlLbl val="0"/>
      </c:catAx>
      <c:valAx>
        <c:axId val="18327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36D-A796-4FE9-A6BB-45887A7B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A4E-EEA4-4B91-B2F8-E317181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6CA-2193-4531-92A5-CF064D58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4E8-29AA-4744-98D3-186804B4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69E-562E-4A6B-82E7-4ED3824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46F-8C57-4924-84C4-434AE5C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0CD-44F9-499F-A385-1A09142A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E3C-3A90-49D1-BB6B-9FFB281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86E-B25E-4490-B060-13618458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DBE-48A8-4F5E-84C2-8378E58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AF4-72FD-4BB4-A3CA-2DC2D00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AFA-56BA-442E-A664-90681AC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90BB-13CA-449F-B993-00C0C1F34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