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74832"/>
        <c:axId val="89628339"/>
      </c:barChart>
      <c:catAx>
        <c:axId val="96774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28339"/>
        <c:crosses val="autoZero"/>
        <c:auto val="1"/>
        <c:lblAlgn val="ctr"/>
        <c:lblOffset val="100"/>
        <c:noMultiLvlLbl val="0"/>
      </c:catAx>
      <c:valAx>
        <c:axId val="89628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74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0CC-A4C1-4710-8D4F-6AB12673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FBC-1CBE-427A-BD71-A7FC852E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FAB-CF39-4811-B4F4-F23ED9B3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398-484A-4AEC-9F07-0DA1FBE8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821-B4CF-4D46-BFA0-8F86B0D9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937-4BB3-4DAC-94E3-FEA55727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DE3-90DA-4294-8315-18898547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B41-2E4D-441B-9163-330BA35E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1B3-F2BF-4BDE-91C7-4E6DF5CB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B94-4131-48E8-A0C0-38ABF7DA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815-564E-4234-B0E6-8BC104B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D9A-C566-4E38-8D4B-5583CE81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F8F3B-D9CF-47EC-B667-9A796742F2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