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51357"/>
        <c:axId val="51900908"/>
      </c:barChart>
      <c:catAx>
        <c:axId val="61551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00908"/>
        <c:crosses val="autoZero"/>
        <c:auto val="1"/>
        <c:lblAlgn val="ctr"/>
        <c:lblOffset val="100"/>
        <c:noMultiLvlLbl val="0"/>
      </c:catAx>
      <c:valAx>
        <c:axId val="51900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51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64A-45FA-4DB5-A176-5B151B4B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CE2-6CDF-48C3-BF49-D1988A4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998-7058-4584-9303-93CB7CC2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FB8-569E-4B4D-8FC5-8AB94247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DC9-8CA0-488F-8E4F-34F2C7BD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014-8DFE-4801-BDE8-256785A9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019-F425-45A7-8013-E8E0C469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7FF-60A6-4C8B-9CAC-0F765C28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7CE-4C59-4BE7-AE08-FF8FE8A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260-62EF-4A84-98FC-1A81B91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9B6-3849-4DBC-AF3B-78F543A6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22B-2F2C-4E35-8BCA-F44FE4CC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1E925-6F05-48B4-9565-C9C8A9A22D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