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9901"/>
        <c:axId val="63877776"/>
      </c:barChart>
      <c:catAx>
        <c:axId val="1379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77776"/>
        <c:crosses val="autoZero"/>
        <c:auto val="1"/>
        <c:lblAlgn val="ctr"/>
        <c:lblOffset val="100"/>
        <c:noMultiLvlLbl val="0"/>
      </c:catAx>
      <c:valAx>
        <c:axId val="638777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9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66A-F0A5-4079-93F4-EC6D8574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01D-6AA0-48AE-8C76-488B09B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9A9-4567-4FE7-AEC7-6755F406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199-3579-4BE8-ABE0-70807C8A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F07-2838-4F3A-AC4C-D4C4A7A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D10-71F9-44E9-B4D3-20E2E754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718-BCFA-4597-950E-04FE6C04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6D7-797D-4427-A234-80784B7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20B-0057-445D-9EC7-F5C6093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FB9-14B5-4AD5-BD8C-AC7B421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8C8D-1870-4FCC-825B-0F5F306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07D-6605-4DFA-985E-92633C1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CC796-6E25-458E-9C01-C0B41B7BA2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