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881088"/>
        <c:axId val="27346224"/>
      </c:barChart>
      <c:catAx>
        <c:axId val="1788108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7346224"/>
        <c:crosses val="autoZero"/>
        <c:auto val="1"/>
        <c:lblAlgn val="ctr"/>
        <c:lblOffset val="100"/>
        <c:noMultiLvlLbl val="0"/>
      </c:catAx>
      <c:valAx>
        <c:axId val="2734622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88108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AFF5-6064-472E-BF89-1DC609E0FC1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2D3990-AE12-4BAD-A7B6-DA3E4F874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7628-E065-4348-9F96-F92511B18F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BA02C-A951-4E36-BB2D-09B4AD3A6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76EF74-AB0D-4ACE-81B4-B586895094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F2099-4D11-4C2C-AA8A-3E0D7D0EC9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7E435-9E4F-40E6-9C2E-F2B34C7C6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0C928-F28B-4DC2-B54F-123EEB851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DA2B-928D-45D1-88EF-76BF9F4F6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201-08DF-4AA0-A3C7-24E4B63C6D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DC8F-6780-462B-8661-B11EED31A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E46760-0180-4E1F-81D5-466F905A7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BDA490-9182-4D1F-B7EC-C30C3FBC8C59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