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471311"/>
        <c:axId val="48242199"/>
      </c:barChart>
      <c:catAx>
        <c:axId val="314713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242199"/>
        <c:crosses val="autoZero"/>
        <c:auto val="1"/>
        <c:lblAlgn val="ctr"/>
        <c:lblOffset val="100"/>
        <c:noMultiLvlLbl val="0"/>
      </c:catAx>
      <c:valAx>
        <c:axId val="482421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4713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6095-9553-4233-AFD2-3B3A13387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4F23-4E15-4A3F-84E2-1881E7D8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BDB4-D9EA-4F61-8EFB-60AAF8A12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B60C-04BA-40A0-96AD-8F590A9F8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A720-0200-4AFA-8203-A9B1F17F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0E18-C3F3-4760-A15D-129A1280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F46B-C5EE-4F3F-8A58-45C799F5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DCFF-3C47-49FE-ABB3-9679081F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EF24-BBA4-400A-8C0B-F4CE5DF0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44D1-7900-4E59-B475-F17E356F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A780-AEFF-48C2-A42F-6884FC35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41BA-9F6E-4A6F-9913-57096F67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A660E-4A0F-4127-9F74-F16358CD96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