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19159"/>
        <c:axId val="79497164"/>
      </c:barChart>
      <c:catAx>
        <c:axId val="55919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97164"/>
        <c:crosses val="autoZero"/>
        <c:auto val="1"/>
        <c:lblAlgn val="ctr"/>
        <c:lblOffset val="100"/>
        <c:noMultiLvlLbl val="0"/>
      </c:catAx>
      <c:valAx>
        <c:axId val="794971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19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4B4-54EF-480F-9CC4-268A14DB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648-55EA-497C-ADDF-0FDF0D90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B65-9F6E-49D0-BCD6-6857BCCD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686-81D3-4BCF-B8B8-2AF3E49D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BF3-C8AF-45CD-A271-05869DAC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67D-7FD8-49F2-BCF4-9C92FC4B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24E-30B2-4F92-B4B6-E641C06D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91D-FCF8-4A64-BB53-5377973D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388-44E5-45EC-AB7E-2A09C2BC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CE2B-1F87-4289-90EB-1CD3791D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7BC-E524-4325-A0C2-A3D40EC6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BCB-AB9A-4819-A799-D7D611E2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49E34-8B12-4A99-92B2-67B05218EA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