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6800882"/>
        <c:axId val="96895041"/>
      </c:barChart>
      <c:catAx>
        <c:axId val="5680088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895041"/>
        <c:crosses val="autoZero"/>
        <c:auto val="1"/>
        <c:lblAlgn val="ctr"/>
        <c:lblOffset val="100"/>
        <c:noMultiLvlLbl val="0"/>
      </c:catAx>
      <c:valAx>
        <c:axId val="9689504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80088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362AB-8AFF-404A-9E25-D391F1B64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9C76A-5C34-4DB8-A8E5-B669614C2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CC562-693A-45D4-9E68-0133F1C9B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DD827-3BF0-402B-BF84-573B38AE0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57289-1CFE-45ED-8702-22FF8EFC4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F66B8-3710-4211-B3AC-691F895C4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172B9-021C-4BC8-B985-271DD026F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A4FE5-2199-4F95-AA5D-C18C8C497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026FC-BE0F-4947-8782-EACECE9C4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5F72B-9397-4AEE-9E63-7CEE32EFD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D5B4F-7534-4618-BBB7-195701CF5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95CF2-F8A4-4B8A-9183-2BB474C62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0A7B23-20BF-40EF-A260-14621906203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