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5606"/>
        <c:axId val="34120242"/>
      </c:barChart>
      <c:catAx>
        <c:axId val="4655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20242"/>
        <c:crosses val="autoZero"/>
        <c:auto val="1"/>
        <c:lblAlgn val="ctr"/>
        <c:lblOffset val="100"/>
        <c:noMultiLvlLbl val="0"/>
      </c:catAx>
      <c:valAx>
        <c:axId val="34120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5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C34-AE5C-41F0-8EE6-04AF3CA9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877-2BF5-42AE-B20D-F99E9FB8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C19-E8D8-4627-9391-E2F1BDB7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76D-9F14-4C58-AFFD-0064A214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729-5EF5-495F-AA6C-343A7E1D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8EE-993F-49D9-B69D-4E7A10E4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3B4-AFCC-41CA-9C06-27551B00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0A4-54C2-4E34-B122-5461CC5C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A18-43A3-4BD5-AB79-615C15CF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87C-2EC5-4F45-985B-8FE5B43C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D01-90DF-4E73-8A6D-92033ACE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8DF-DAEA-4377-B87F-8FCF64E6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9BBEA-03E0-4188-83C6-C2C6E0F4D4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