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48274"/>
        <c:axId val="22947883"/>
      </c:barChart>
      <c:catAx>
        <c:axId val="79482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947883"/>
        <c:crosses val="autoZero"/>
        <c:auto val="1"/>
        <c:lblAlgn val="ctr"/>
        <c:lblOffset val="100"/>
        <c:noMultiLvlLbl val="0"/>
      </c:catAx>
      <c:valAx>
        <c:axId val="229478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482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4B16-9D0A-4809-8669-486B794D7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9D81-E344-4F70-8C00-A6C041D57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7D80-31D8-4606-96F3-E81D9B362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5501-C85A-448F-9390-6128C4B8E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D88A-2DC5-448B-B6B5-93F00CC73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AFE0-09B9-4E40-A294-6388894F4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FF99-7E60-4052-A28B-A13C5857B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0AE2-1752-483B-9C17-77389F5FC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C6F0-D94D-43F2-925B-E88FFE3CB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0D00-7FE8-4573-A9A8-5C8EF027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5930-A8BB-40AE-A4F7-DE48262D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7B80-6CF1-48D4-B127-95AB42E7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0CBFA5-C652-471D-9B45-C24FE62897E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