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89859"/>
        <c:axId val="24418938"/>
      </c:barChart>
      <c:catAx>
        <c:axId val="13489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8938"/>
        <c:crosses val="autoZero"/>
        <c:auto val="1"/>
        <c:lblAlgn val="ctr"/>
        <c:lblOffset val="100"/>
        <c:noMultiLvlLbl val="0"/>
      </c:catAx>
      <c:valAx>
        <c:axId val="2441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9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8B7-A1C1-4F89-BF4F-AD87276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265-4E4E-41F8-B2AF-CE07FD4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311-DB40-47A2-8B2D-B6CB20E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212-A0AD-44C0-81C2-D49C93AE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DDA-B8F1-4DBA-AAB4-C48CB604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4DE-1618-4B75-8E72-5203F58B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CA8-A422-438B-B11F-3FAF334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D50-192A-4AD5-BA24-5EF30A0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FC7-3B0B-41D5-B9A0-9B45676D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580-D730-400E-BF86-78460D6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479-8B5D-4CB6-8A6C-4A376EC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E17-D9A7-4E89-80F3-2BAB53D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A7CF-FFBD-43B5-ACF8-090838CFA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