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3764"/>
        <c:axId val="21988793"/>
      </c:barChart>
      <c:catAx>
        <c:axId val="1339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8793"/>
        <c:crosses val="autoZero"/>
        <c:auto val="1"/>
        <c:lblAlgn val="ctr"/>
        <c:lblOffset val="100"/>
        <c:noMultiLvlLbl val="0"/>
      </c:catAx>
      <c:valAx>
        <c:axId val="21988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935-07AD-4496-B67F-733D9DD6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7D5-E06C-4AB5-8629-3A072E4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8BD-A32E-4C82-8D6D-C2D00A1B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955-C89E-4C91-A36E-3B3CFAF6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8BA-EAA2-456C-9646-D28D5B72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1F7-825B-49FF-8FA8-2DD4A477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58F-97C8-4CD5-81FB-06445405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667-1506-42EE-9C2D-2354553B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0E5-8E31-4BBA-BB2F-BB9A4ED1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ABD-2C46-4042-9929-E66222E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3EC-250D-4E1D-B071-4E2A2D2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1AD-7FE2-4977-8645-DED33909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CA9DB-FEA1-4C49-94D0-1245D80F50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