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717961"/>
        <c:axId val="51599271"/>
      </c:barChart>
      <c:catAx>
        <c:axId val="617179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99271"/>
        <c:crosses val="autoZero"/>
        <c:auto val="1"/>
        <c:lblAlgn val="ctr"/>
        <c:lblOffset val="100"/>
        <c:noMultiLvlLbl val="0"/>
      </c:catAx>
      <c:valAx>
        <c:axId val="515992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179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E450-DF7E-4E64-A079-E869975E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EA64-D95E-4DA2-99BC-02F26FF2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1B50-53D8-4585-862A-7EC993B9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90B4-C923-4866-9BF1-3603053F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B331-3D61-41A4-8CE8-5606FE75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8BB8-590F-4B37-BA30-866166AF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7F85-565C-4776-9E36-A475E951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5FE3-6D01-4F75-B04A-ED73F644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93C8-E861-4EDA-AC55-24D6269F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CA5A-7321-4BE4-90A6-CC97497B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E455-A64A-44E6-97CD-036C9A3E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E708-27B1-4FE4-886B-2297F776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47159-E7A8-4A41-BB2E-30ACE400F4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