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515640"/>
        <c:axId val="15961660"/>
      </c:barChart>
      <c:catAx>
        <c:axId val="725156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61660"/>
        <c:crosses val="autoZero"/>
        <c:auto val="1"/>
        <c:lblAlgn val="ctr"/>
        <c:lblOffset val="100"/>
        <c:noMultiLvlLbl val="0"/>
      </c:catAx>
      <c:valAx>
        <c:axId val="15961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156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966-305C-4DCD-9FA4-280B455E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F61C-19D4-450E-8369-E0FC605F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D3E-3FF3-4A86-A533-2B8DF954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1BE-875D-49D2-A025-9608F04E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EF5-AE6B-43F1-8182-3EC9056A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B2C-60A4-4D6C-92BF-75309805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7C1C-2137-4126-8C02-2CE0135F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95A2-9ED8-4700-8303-07B6D4FF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8D3C-8B26-4198-B258-40ABEF24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AC08-07F8-40B5-A75C-D989147A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5F3-86D9-43CD-A53E-06E5D13F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32B6-6C29-4980-BBED-F5B4FF0E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811B3-8352-4E4C-9A9F-F0C1014C98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