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173500"/>
        <c:axId val="33495952"/>
      </c:barChart>
      <c:catAx>
        <c:axId val="921735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495952"/>
        <c:crosses val="autoZero"/>
        <c:auto val="1"/>
        <c:lblAlgn val="ctr"/>
        <c:lblOffset val="100"/>
        <c:noMultiLvlLbl val="0"/>
      </c:catAx>
      <c:valAx>
        <c:axId val="334959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1735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3055-BBF4-4EC1-AB74-D2765B710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C49E-6307-44A2-8360-8D5166BCF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5C23-8286-4E81-B6FE-BEE3009C0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A3F5-EC38-4186-A9D2-C7CF632A7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B4C9-864A-4192-9A79-142F1D533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5AB1-AA6D-49FD-8568-58DDE389A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4805-EE68-4354-835B-61B453EFA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0A4D-4D4A-49D0-9175-575BC9F34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F129-544D-4992-83B0-39F4CFDD8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8366-3EE7-4E44-A194-3EDFBA4C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DF30-F184-4664-A7FA-E6F721078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528A-89C4-4EF6-A730-956D32106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54A425-D529-454D-8268-E80D1A353D4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