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69061"/>
        <c:axId val="30277607"/>
      </c:barChart>
      <c:catAx>
        <c:axId val="85369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77607"/>
        <c:crosses val="autoZero"/>
        <c:auto val="1"/>
        <c:lblAlgn val="ctr"/>
        <c:lblOffset val="100"/>
        <c:noMultiLvlLbl val="0"/>
      </c:catAx>
      <c:valAx>
        <c:axId val="30277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9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115-C9EB-4C30-BED5-70FD6964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D09-97B4-4B3C-B84E-E256B995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E1D-3AC3-45DE-9345-F9D2F494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632-4BC5-4F06-85A1-26071820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94C-8412-4146-BF3E-34DC973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5E8-4CC7-4072-976E-FC1A4DE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553-BFD0-426C-B248-B7E72FC6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8B8-A748-4938-9CEA-7FE2AD35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6E3-FF25-47A6-97B7-5E82ADC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957-06B4-439B-BBB7-4EA7784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E0F-D2A7-4A08-8258-5EBA6BA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5F4-6DD8-4F37-85F5-DA007A7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6AE6D-AB00-4D52-BCB6-ADC98A8DB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