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95361"/>
        <c:axId val="82995053"/>
      </c:barChart>
      <c:catAx>
        <c:axId val="67495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5053"/>
        <c:crosses val="autoZero"/>
        <c:auto val="1"/>
        <c:lblAlgn val="ctr"/>
        <c:lblOffset val="100"/>
        <c:noMultiLvlLbl val="0"/>
      </c:catAx>
      <c:valAx>
        <c:axId val="82995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95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B98-E2B5-4D31-BB6F-5963DC23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1B6-3EB5-49D9-8271-681A87E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F78-F8B5-46BA-A8D1-BE3CB9F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757-705E-4C55-8350-76050176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ACA-C0CA-4407-B799-BC331E66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EE1-BF62-4B1A-A08C-32997E0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C22-BE7F-4F79-B1C8-5AA37B3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182-7C5E-4E9D-9D8D-35836AF9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9A6-F4A7-4369-85FF-A781E07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457-8238-4E03-8BD2-8162C599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C8A-B6FA-40A4-B84D-79963D1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5B9-A1AA-4BE7-AE8B-DD15EE2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E2337-34F6-4A05-8434-CF3E1FF677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