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93836"/>
        <c:axId val="82524297"/>
      </c:barChart>
      <c:catAx>
        <c:axId val="80793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24297"/>
        <c:crosses val="autoZero"/>
        <c:auto val="1"/>
        <c:lblAlgn val="ctr"/>
        <c:lblOffset val="100"/>
        <c:noMultiLvlLbl val="0"/>
      </c:catAx>
      <c:valAx>
        <c:axId val="82524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93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A3F-DEFD-41B1-AD29-E9BFCF6E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E87-43D0-4B2B-B235-36A66FED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7B9-6E88-418F-A4C6-4896B0BC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F62-A6B4-49B0-952B-E8BE756E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7B1-0105-4496-8A58-A5A68761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C4A-B6C1-486C-AAE7-984EC521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FB5-C676-4BE8-8246-C8FE236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8BB-C17E-400F-AE3D-43F41BED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3F2-348F-490E-B115-D27F9491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5FC-EEB3-40A2-9BF4-4BDD9C5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B6A-9E9D-4C91-BA48-8EC9019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15F-838D-4ACA-AE39-FB3862F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6D49A-6D1C-4E80-90FB-880B10CEAF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