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554267"/>
        <c:axId val="60024481"/>
      </c:barChart>
      <c:catAx>
        <c:axId val="265542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24481"/>
        <c:crosses val="autoZero"/>
        <c:auto val="1"/>
        <c:lblAlgn val="ctr"/>
        <c:lblOffset val="100"/>
        <c:noMultiLvlLbl val="0"/>
      </c:catAx>
      <c:valAx>
        <c:axId val="600244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542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9548-8E3D-4394-BC9C-EAD86BFA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57E9-79B9-4A03-9055-89072647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69D8-46E2-443B-A4BD-6D7F37C2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CC46-A1BC-444C-8950-31E48180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9E2A-3FF1-49A5-BDF0-B68724F9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26E9-614C-4FB0-944A-FCDC2789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6FC2-90EA-4F3E-8F39-C832953E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29EF-E0EA-4C67-9188-35514019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468E-F62D-49AA-8854-73B030B4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6878-A01A-462F-8C97-73F8CC3F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5063-11DB-4E89-9548-62A0D1F2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D4D1-CB6D-4733-8B94-71582AF0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EDBF6-F5F8-4DC4-BC98-654CEEA396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