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18320"/>
        <c:axId val="53357431"/>
      </c:barChart>
      <c:catAx>
        <c:axId val="16518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57431"/>
        <c:crosses val="autoZero"/>
        <c:auto val="1"/>
        <c:lblAlgn val="ctr"/>
        <c:lblOffset val="100"/>
        <c:noMultiLvlLbl val="0"/>
      </c:catAx>
      <c:valAx>
        <c:axId val="53357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18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F77-64C1-4BAF-9C25-C7DBA292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8358-93AC-470B-ACEF-E1C29A98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A781-6199-47EB-9BA0-F5F7CB4D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5FB3-6045-4877-B81A-22328043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750-C203-4253-AB86-991D4CB4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50FC-4223-4529-9285-5D4A1B00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ADD-A5FA-42C7-B137-7B392837A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4D26-67D9-49D7-9099-21DBC265B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F8A-97A7-4ED3-ADA2-46FCD405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7D3-B3D0-4970-AB25-18587D91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185-8835-4A7D-8535-FE3634BB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D5E-6B9C-4A8D-BAD3-BEC8AECD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39900-A03F-40A3-9F20-F0EF74A3F1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