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52596"/>
        <c:axId val="23669499"/>
      </c:barChart>
      <c:catAx>
        <c:axId val="69252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69499"/>
        <c:crosses val="autoZero"/>
        <c:auto val="1"/>
        <c:lblAlgn val="ctr"/>
        <c:lblOffset val="100"/>
        <c:noMultiLvlLbl val="0"/>
      </c:catAx>
      <c:valAx>
        <c:axId val="23669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52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79E-9AA9-4F27-81C5-419A2F28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6C6-95E3-46F0-A9C6-123B8430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6E8-CFE6-4774-97A2-43752A2D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4B6-41C1-4107-B308-01E87AB7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20A-53FB-44AD-996A-62084F3B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AB0-2F9C-4579-A6A9-3890DC1E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C9A-874F-4B73-9655-DC1651F4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E7E-C1AB-4A2E-9038-A9744559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688-11AF-4B92-B45C-DF4FE54D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C5B-3DF5-4893-B689-F7E05173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374-7639-4057-8C21-5446E862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960-82CD-4B7B-87DB-840DF02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7B2CC-03BE-4971-923E-53578D8C9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