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546"/>
        <c:axId val="63957340"/>
      </c:barChart>
      <c:catAx>
        <c:axId val="7059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57340"/>
        <c:crosses val="autoZero"/>
        <c:auto val="1"/>
        <c:lblAlgn val="ctr"/>
        <c:lblOffset val="100"/>
        <c:noMultiLvlLbl val="0"/>
      </c:catAx>
      <c:valAx>
        <c:axId val="63957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71E-164F-4A96-9D07-4EFFBA1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E79-BCFE-4D98-BE2D-C11CCF4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A4A-2B43-4463-A6CE-D93E274B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D5A-D674-432D-AEC4-99284300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2EB-5D22-4E44-9397-C13617F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533-F135-4DA4-B068-D6C00ADF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E4C-FD30-443B-8605-7B4037B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1CE-0E7D-4F20-BCA9-BBE0A1E9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A95-6D6A-43C7-9345-435FABA3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EC9-E845-4842-AEA4-CEE1417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E86-ACB9-4BF3-A00E-E0B5F80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432-F890-4904-9E7F-AADA8E8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82758-DF07-470A-A5DF-C5422564A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