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28434"/>
        <c:axId val="21173779"/>
      </c:barChart>
      <c:catAx>
        <c:axId val="67428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73779"/>
        <c:crosses val="autoZero"/>
        <c:auto val="1"/>
        <c:lblAlgn val="ctr"/>
        <c:lblOffset val="100"/>
        <c:noMultiLvlLbl val="0"/>
      </c:catAx>
      <c:valAx>
        <c:axId val="21173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28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779-BA6F-4EC4-B112-859F3581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C81-804A-4BBB-9494-6D4376D6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1D8-BD6C-4918-B314-9253DF46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9C9-21CC-4C82-B068-9BCCC916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7D5-65B9-4C82-AF6A-F3DDBBEE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AD2-A423-4259-B191-431EDF6D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74E-BF88-4903-BF38-272A406D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F29-66A6-40B9-B044-6CD8CADC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505-7686-4F25-907D-0D48F26F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E6D-6148-43E6-BC40-C478A0EE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326-A362-4CAF-A610-F52C0129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B49-CA88-4DCE-83AC-9A328B10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31318-1D11-466F-8EB2-2FD732A235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