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41656"/>
        <c:axId val="88143091"/>
      </c:barChart>
      <c:catAx>
        <c:axId val="99641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43091"/>
        <c:crosses val="autoZero"/>
        <c:auto val="1"/>
        <c:lblAlgn val="ctr"/>
        <c:lblOffset val="100"/>
        <c:noMultiLvlLbl val="0"/>
      </c:catAx>
      <c:valAx>
        <c:axId val="88143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41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951-7F96-4B8F-B8F8-4A0CAD99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87E0-1300-4FC6-B6A6-BEAA946D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B30-2C5B-4338-AD03-722989F4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EAE-08BC-45BB-9418-BC8EBD49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6AC-8305-4805-A6A1-6D525481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5EB-B703-4373-9FAF-7A4D3303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93F-83CD-4E74-AC0C-EB1E8D75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FC9-242B-49DB-A4AF-08D8DE4D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306-6EAD-40F2-92AF-B0161CF2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0AE-29C3-429A-B350-62AB1DC5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DA55-F0F9-4BDD-8F18-BD09F860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922-6606-4EF1-B5B0-5C1D8090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5C327-E093-4455-8E62-56823E121D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