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77321"/>
        <c:axId val="98190843"/>
      </c:barChart>
      <c:catAx>
        <c:axId val="38177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0843"/>
        <c:crosses val="autoZero"/>
        <c:auto val="1"/>
        <c:lblAlgn val="ctr"/>
        <c:lblOffset val="100"/>
        <c:noMultiLvlLbl val="0"/>
      </c:catAx>
      <c:valAx>
        <c:axId val="98190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77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455-FC7E-4A9A-B146-0D64B6A6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88C-2E9F-4186-B7BE-0537348D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35D-F94D-4AAE-A0DA-AC544A23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3EB-E47E-4856-A111-608764A4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A9E-4B5A-4F83-9293-42E6E5BB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717-82D1-4313-A8F6-FA27867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298-07AC-4D73-9904-D32FB156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E9E-7308-408C-881C-675A20AB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680-2081-4521-8BB6-F5A676A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701-1B93-47C7-AD08-B457B40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BD4-42ED-4CA6-9C4E-0C506BE1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B07-5DE1-4E94-9DFE-D576ECC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FFC4F-1B11-4F65-9D04-B41331359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