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51346"/>
        <c:axId val="50830254"/>
      </c:barChart>
      <c:catAx>
        <c:axId val="99851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30254"/>
        <c:crosses val="autoZero"/>
        <c:auto val="1"/>
        <c:lblAlgn val="ctr"/>
        <c:lblOffset val="100"/>
        <c:noMultiLvlLbl val="0"/>
      </c:catAx>
      <c:valAx>
        <c:axId val="50830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51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74B-3EBB-46DB-AD94-8054EB85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30B-5E8A-47C8-810E-5F5CB8E7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D25-D275-4DD6-8FA2-805E5237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CFA-8CBB-4E07-BF67-44633D9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B63-0AC3-4967-91F5-DA3A723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66-E560-4496-967C-6BB83E6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147-3A1E-4CC5-BA1D-490BE85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BAC-52A2-4430-9F0C-F0B2B7E8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8E0-BB33-4D28-826B-ED13B950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B27-BD25-4C0B-885B-7001999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A7D-BB68-4E93-8D60-2F42268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EA2-2480-4232-BF08-53DEF70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23061-DC7B-40F2-9FCA-5D4927265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