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732012"/>
        <c:axId val="35915818"/>
      </c:barChart>
      <c:catAx>
        <c:axId val="967320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915818"/>
        <c:crosses val="autoZero"/>
        <c:auto val="1"/>
        <c:lblAlgn val="ctr"/>
        <c:lblOffset val="100"/>
        <c:noMultiLvlLbl val="0"/>
      </c:catAx>
      <c:valAx>
        <c:axId val="359158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7320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D34A-5885-4D3B-A92C-FF50D31C7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F3F7-AC1A-40B2-A0DF-DF365A2FE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4009-11B2-4A73-B83E-2B5FB731E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C5A7-6E22-4904-8E92-749907F89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E9CA-15F7-484B-BF1A-E2412E6E7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4C18-4298-4DC2-B06F-5CD012E64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F1F9-CD77-4526-BB02-44B3BDACB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DB30-6113-4DEE-A7A6-4F4D52A83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C371-4966-4A6C-A1DB-0F1284A5D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26D9-478A-49B2-A7CD-15AF5BEA6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471E-F144-48BE-949F-76AA8A5D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B239-714C-48FF-A10E-8A19009C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3D8D1E-98AB-425D-BE13-3A060578E15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