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2787"/>
        <c:axId val="34124175"/>
      </c:barChart>
      <c:catAx>
        <c:axId val="2362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24175"/>
        <c:crosses val="autoZero"/>
        <c:auto val="1"/>
        <c:lblAlgn val="ctr"/>
        <c:lblOffset val="100"/>
        <c:noMultiLvlLbl val="0"/>
      </c:catAx>
      <c:valAx>
        <c:axId val="34124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2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43F-C38D-45B1-8716-DB141C7E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9B4-9336-4557-ADE2-7EF50B2A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7D9-B8B4-45CD-9B81-DC0DCD06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221-863A-4172-AE92-7C5E6C91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76B-0BDE-4009-B407-0B753FC0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77B-693A-462A-801E-17C59AC9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4DA0-FDE8-4CAB-BE1E-5D464E49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ED4-A896-4950-8890-D3F37B92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79F-3788-42A8-9970-E69D87FC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77D-1862-4863-87B8-2E02E4AE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2A1-B5E6-4FDA-928D-9B319E89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794-04B6-480C-9BAB-4EFA77B7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7BB29-6234-4B8B-A9BB-F6BE4B7383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