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99933"/>
        <c:axId val="74696996"/>
      </c:barChart>
      <c:catAx>
        <c:axId val="42999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96996"/>
        <c:crosses val="autoZero"/>
        <c:auto val="1"/>
        <c:lblAlgn val="ctr"/>
        <c:lblOffset val="100"/>
        <c:noMultiLvlLbl val="0"/>
      </c:catAx>
      <c:valAx>
        <c:axId val="74696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99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2A6-7A71-419C-9D97-1D729DA4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4BD-C218-447C-8F26-10C46CAA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0AB-EF59-4607-81A3-1AFFC9B0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B2A-4C06-4283-8D24-0AB98299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5C0-76E3-44CD-B266-14A7AB86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019-EC02-4E66-A47D-6C5F510C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1B9-7FFE-409D-9DD1-F04497DC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3D4-B556-437D-9265-E10E4D64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F4C-333D-4EA3-A225-61628DC5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617-BD2A-45CD-93DC-435FCE7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67F-1AC6-435A-8180-C5954B43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F98-44F1-4F1F-A0D8-0249B22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7D041-5176-48DF-BBE3-F40856FA5F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