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77708"/>
        <c:axId val="79439296"/>
      </c:barChart>
      <c:catAx>
        <c:axId val="74177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9296"/>
        <c:crosses val="autoZero"/>
        <c:auto val="1"/>
        <c:lblAlgn val="ctr"/>
        <c:lblOffset val="100"/>
        <c:noMultiLvlLbl val="0"/>
      </c:catAx>
      <c:valAx>
        <c:axId val="79439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77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3CB-C280-47C0-83CB-D3F4F48D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17D-41AE-4329-AD6C-9B8D7E4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55D-22CE-4683-B6E5-84CA7FE8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D0C-5789-4B89-BE8F-A6452632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FC5-2010-412A-B695-8DFB58A5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86F-5074-442B-B086-8E39C9A2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B19-91EE-4038-B4BA-C19EC20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BFD-F62D-4CCB-AA44-17DD0D6E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387-F1C0-44CB-86CD-45FC4C0D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8F6-A119-4211-8D9A-6F2C1A0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81F-7F87-43CA-87E9-D72DFE99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FE4-E8FA-4069-8A4D-03957D7D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16F8D-3BB5-48EA-B0C4-4B50C0DC88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