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14352"/>
        <c:axId val="17852195"/>
      </c:barChart>
      <c:catAx>
        <c:axId val="43714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52195"/>
        <c:crosses val="autoZero"/>
        <c:auto val="1"/>
        <c:lblAlgn val="ctr"/>
        <c:lblOffset val="100"/>
        <c:noMultiLvlLbl val="0"/>
      </c:catAx>
      <c:valAx>
        <c:axId val="17852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14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E58-F944-4A3B-875B-2E4030DC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D40-1DE3-4169-9010-F81F88EB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063-848C-420A-8641-9F39FCC8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9BC-9CCF-4DBA-83E2-0761CC09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C84-C99E-4D01-84E0-0175FE0A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FB2-1A6B-4D1C-B486-3F62B952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29D-2C68-45E6-B690-F326E902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545-1B4F-4892-B959-2A14C7A8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26B-0337-4F67-822D-710F94AF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3E3-95BC-4C19-A3D0-7FC15C43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702-E488-4655-AA4E-7B57D09A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45F-CE59-4E41-B003-509233BC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98519-CAFC-4FC9-84C1-BAD7A60929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