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83071"/>
        <c:axId val="94333754"/>
      </c:barChart>
      <c:catAx>
        <c:axId val="15783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33754"/>
        <c:crosses val="autoZero"/>
        <c:auto val="1"/>
        <c:lblAlgn val="ctr"/>
        <c:lblOffset val="100"/>
        <c:noMultiLvlLbl val="0"/>
      </c:catAx>
      <c:valAx>
        <c:axId val="94333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3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B4B-B7D8-4746-BEA8-3BB5B490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4BE-66B0-4885-AACB-CC4C3D38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0C5-AB9E-4534-B85F-DA10143D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18D-D04C-43F2-BFCE-E240A04C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F0F5-8A12-4030-9D93-ACEACF3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8DE-8E12-460E-AF23-7D077D18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EF4-1E1C-4A9B-828F-A733885C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1F1-824E-4789-A937-A435FDD2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B27-F227-46DB-B259-D3647C21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166-E51C-4E8A-AE13-15562CA2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F9A7-8FA4-4446-8A24-DD7B427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27F-C3A2-49A4-A93A-6D12938C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E1E17-1418-4050-99AA-8858F56E0F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