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93041"/>
        <c:axId val="75338995"/>
      </c:barChart>
      <c:catAx>
        <c:axId val="48893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38995"/>
        <c:crosses val="autoZero"/>
        <c:auto val="1"/>
        <c:lblAlgn val="ctr"/>
        <c:lblOffset val="100"/>
        <c:noMultiLvlLbl val="0"/>
      </c:catAx>
      <c:valAx>
        <c:axId val="75338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93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8CE-D6A2-4625-96AB-6874472A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80A-AC47-4B0D-A1D5-7C24EE6F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EB5-B096-48EC-B9EC-9291B2FA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EE4-9316-4B42-8AE7-B1A132EC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56D-0015-4834-9B9C-EB732DF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AC2-5A54-434A-AF96-F69DFDC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565-D37D-445A-A303-843F1513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1A3-B308-4A92-BCE2-1B026A9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E41-5046-44D6-9D7F-E94387AD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7A3-8A32-4194-B730-5152A57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349-03E5-4462-B2C6-7944A15B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4BC-BF4F-4D7E-BCB7-6693AF55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959F8-50A4-4BA5-87D7-D24459122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