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520512"/>
        <c:axId val="48590807"/>
      </c:barChart>
      <c:catAx>
        <c:axId val="575205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90807"/>
        <c:crosses val="autoZero"/>
        <c:auto val="1"/>
        <c:lblAlgn val="ctr"/>
        <c:lblOffset val="100"/>
        <c:noMultiLvlLbl val="0"/>
      </c:catAx>
      <c:valAx>
        <c:axId val="485908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205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0F3E-7A61-49C4-A58D-3469D3E0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5C96-1598-463F-BD98-0810D44D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E1EA-A057-4EAC-B14B-B6CF308E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EABF-1946-4F66-8CB9-D572FF78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B3E2-0BCB-4E98-8F9C-ADDB43DE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519F-BD8C-4DEF-8471-EE87561B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D0FC-1B27-4823-A4AF-5C710547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675-3F4E-4F99-9A7A-773AAD14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B676-3E9E-41C4-9BA8-DC6D8E98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D1DC-796D-4947-A143-A32C5CA0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1115-09F3-4491-8253-04BAAD6D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9684-58D6-4974-803D-7B2AE20B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15FD5-7BB0-4C8F-99D2-6EFA1C001E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