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41379"/>
        <c:axId val="35045589"/>
      </c:barChart>
      <c:catAx>
        <c:axId val="66941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45589"/>
        <c:crosses val="autoZero"/>
        <c:auto val="1"/>
        <c:lblAlgn val="ctr"/>
        <c:lblOffset val="100"/>
        <c:noMultiLvlLbl val="0"/>
      </c:catAx>
      <c:valAx>
        <c:axId val="35045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1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B7B-B7F7-4C63-918F-9E44FA2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C56-2EB4-43EE-9466-4F43E94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A92-8ABA-470B-81D7-2E59C2E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879-F444-49AA-A3E7-C123B299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758-AF6B-4742-8262-0033575D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A9F-17D5-415C-A836-2A771A3F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4F9-2AC8-4F05-A081-007E54E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AB6-6B28-4521-AE6E-6A2A6358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440-66CF-4A7F-9932-965FC7C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3C4-1887-4A13-B37A-E080F0C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381-1915-485D-9132-7FEFDE9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857-30E8-4E5B-84B7-7060312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7FA6D-DB0A-4A1C-87DC-61B3F1F80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