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38410"/>
        <c:axId val="3085197"/>
      </c:barChart>
      <c:catAx>
        <c:axId val="28538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5197"/>
        <c:crosses val="autoZero"/>
        <c:auto val="1"/>
        <c:lblAlgn val="ctr"/>
        <c:lblOffset val="100"/>
        <c:noMultiLvlLbl val="0"/>
      </c:catAx>
      <c:valAx>
        <c:axId val="3085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38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379-1F07-434E-BE03-96181E78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F2C-FCBA-4648-9626-6CB1710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9FF-BCC5-4986-AE35-A1C23A30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A03-730D-47F6-8C05-286C85F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C1-89CD-4920-A580-C5EF1C5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9BC-FDA2-4030-B5A9-3D76E542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503-1384-43B1-982B-F09F494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C63-B2F6-4F2B-8F38-B6DD7B5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715-A71D-44BD-B65A-065F123A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311-C668-44A4-A335-F22B746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807-77D6-49DA-9565-BCCE0D7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DC1-7626-44E7-A65A-8919657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B6E67-59CD-4EC1-86A7-CA4F3FA3B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