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33612"/>
        <c:axId val="3427156"/>
      </c:barChart>
      <c:catAx>
        <c:axId val="64233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7156"/>
        <c:crosses val="autoZero"/>
        <c:auto val="1"/>
        <c:lblAlgn val="ctr"/>
        <c:lblOffset val="100"/>
        <c:noMultiLvlLbl val="0"/>
      </c:catAx>
      <c:valAx>
        <c:axId val="3427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33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9B-7388-49C6-8D06-518DE0F9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125-99D7-43CE-9731-2006886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378-9DE6-431F-A917-7184B903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108-D5E2-4687-934D-6AE05BA4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989-7BEC-402E-B810-47F82B9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84F-B2B8-476E-92A5-9CBA9E5A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CC-8B67-4834-8E2F-5C681DD1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FAF-DBFE-4417-B0E1-5EF8E5B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173-ECC3-4C02-8185-9C3A78D4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1E2-0C5E-40C3-82B7-84329D0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57A-6090-4AC6-A815-CDD16C6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58E-0713-4584-8F94-4A84031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CFD6-4B74-4CDA-93B1-15692975B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