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01237"/>
        <c:axId val="36211735"/>
      </c:barChart>
      <c:catAx>
        <c:axId val="69801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11735"/>
        <c:crosses val="autoZero"/>
        <c:auto val="1"/>
        <c:lblAlgn val="ctr"/>
        <c:lblOffset val="100"/>
        <c:noMultiLvlLbl val="0"/>
      </c:catAx>
      <c:valAx>
        <c:axId val="36211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01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B60D-BE56-41EB-B6B8-8D709F77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60D-5692-4E03-8316-B579A661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D97-F8B2-425E-BD0F-F30FA6C3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1C1-3BD4-48CC-9EAF-8EC9931E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CB27-1187-4A83-A90F-DE585099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9894-2932-497D-9AA1-7694F934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0EB2-192A-4E83-BFF6-BCE8FB3E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BF5-DF47-4995-846C-0B1686DC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B95-D6E8-4F29-BA45-57078027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F0F-B0EC-4731-826E-DC677F85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F5F-A874-41DD-BCB8-FAE3564E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E86-0076-46BE-B416-82F91A17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EDED1-CC88-49C5-B971-2B483F5370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