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35632"/>
        <c:axId val="28878182"/>
      </c:barChart>
      <c:catAx>
        <c:axId val="28335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78182"/>
        <c:crosses val="autoZero"/>
        <c:auto val="1"/>
        <c:lblAlgn val="ctr"/>
        <c:lblOffset val="100"/>
        <c:noMultiLvlLbl val="0"/>
      </c:catAx>
      <c:valAx>
        <c:axId val="28878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5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B32-E7E4-4A0C-9F8F-A3DF03ED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C9B-8ECF-4EF6-94C6-E6F23FC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3F6-213C-4278-898D-8B9901D8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113-C967-4D9C-B229-F8FD2B95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B51-104F-4601-AC0D-D5DEAE46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839-4929-48E1-A07D-5E5B29C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498-F670-4AEF-A5EB-360AC253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C72-949D-42AF-865E-06ACBFD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5B8-0EF1-42FE-9E34-F122E5DA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313-2AB1-4319-B928-58CD072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EBF-C065-442C-9470-7042E2E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6D3-C15D-42C6-B990-8A08047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A182A-BE7E-4C98-B02D-FD23F54773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