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59306"/>
        <c:axId val="54327135"/>
      </c:barChart>
      <c:catAx>
        <c:axId val="87859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27135"/>
        <c:crosses val="autoZero"/>
        <c:auto val="1"/>
        <c:lblAlgn val="ctr"/>
        <c:lblOffset val="100"/>
        <c:noMultiLvlLbl val="0"/>
      </c:catAx>
      <c:valAx>
        <c:axId val="54327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59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290F-2F1F-4360-B2A6-3BBC2568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BE6-CA8D-47BC-BA54-822E470B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2123-8CBC-4947-A0E3-616E673C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F49-E1A2-48F9-B151-F43374F6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F85-8480-4207-924B-392B4C03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432-72A3-40A0-B79F-3EBA0A6E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B0B-52CD-4E7C-98AC-6231FCB3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246-548E-4F50-BD6E-2A28D489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4A2-30DE-48D3-9061-F986B382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263-56F2-4C3B-A502-71973FFA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168-1C61-4A4B-9BF4-DD743B1A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BEED-0EF5-4187-9A17-4A93BBD8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7B466-DB5C-452A-85CA-EEDFED5126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