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01130"/>
        <c:axId val="36467023"/>
      </c:barChart>
      <c:catAx>
        <c:axId val="30801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67023"/>
        <c:crosses val="autoZero"/>
        <c:auto val="1"/>
        <c:lblAlgn val="ctr"/>
        <c:lblOffset val="100"/>
        <c:noMultiLvlLbl val="0"/>
      </c:catAx>
      <c:valAx>
        <c:axId val="36467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1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133-E732-45AB-B3A6-02CDD741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E22-1E1B-4E1C-9806-DAE2E99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E26-36A1-4036-927C-A2B179E9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64E-262D-434F-806B-6A4DB736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5AA-0835-499C-BBCD-8DC6AFD0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87F-6F00-4717-AD32-748536CD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2DA-A3E4-4135-9828-1A70E43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F93-823F-4560-B566-A65F89FB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C37-B573-49D9-9624-B312F7C7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B7E-9963-41D3-96FF-4A3F8BBB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B7F-C1FC-4D2B-B3A4-2C9F54B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FAA-0B7A-4E4E-98C9-F9AF8B6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CDC93-C49A-42B4-B3A0-05CA30350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