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77823"/>
        <c:axId val="24747926"/>
      </c:barChart>
      <c:catAx>
        <c:axId val="54177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47926"/>
        <c:crosses val="autoZero"/>
        <c:auto val="1"/>
        <c:lblAlgn val="ctr"/>
        <c:lblOffset val="100"/>
        <c:noMultiLvlLbl val="0"/>
      </c:catAx>
      <c:valAx>
        <c:axId val="24747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77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235-2A91-4B41-A901-1CED2F44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E34-5991-4911-8F81-2BF276F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5DF-1CA8-46EA-A8C9-028B57A4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30A-C3E4-49AA-9F23-232C0233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91F-5A8A-40FD-94C2-4555B937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6C5-52C7-4BCB-AD93-816729F3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46E-B8F6-4A42-9138-97D4701F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86A-68BD-4843-8E81-D6DDA460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0F8-8D4C-44C2-AB88-F86340DD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44F-DDA2-44B3-8FAF-AED687BD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294-3F35-4D1C-9BC2-8F157365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DD7-D3AE-4F11-8799-01B11F7E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16A4D-73C1-4305-8C98-80A2C96606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